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A85-C745-44F1-A2A3-224FC5E5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6A7-3257-4A92-85E4-6407517D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0BC-6140-4B35-9DAA-BA5473E5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8AC-34AD-4AEE-9465-78A84106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7B5-13EA-4024-B8BF-D8B10612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BCA-5ADE-4904-B3C9-A2F52F35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7CF-9D6A-4022-ADF7-6B433E21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228-5C16-48E6-8C60-0222D641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3C1-1EED-4F6E-A8CF-30935777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9F3-8BC8-45BE-B356-3623FE2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EC9-F54B-46B2-A3C2-880DA5E3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853-6AA4-436C-B147-FF76967B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7E92-12EC-421D-A004-FA77B69C1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71640" y="1989000"/>
            <a:ext cx="3532320" cy="27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толицата</a:t>
            </a:r>
            <a:endParaRPr b="1" i="1" lang="en-US" sz="4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а</a:t>
            </a:r>
            <a:endParaRPr b="1" i="1" lang="en-US" sz="4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овия свят</a:t>
            </a:r>
            <a:endParaRPr b="1" i="1" lang="en-US" sz="4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133720"/>
            <a:ext cx="41529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градската стена има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ванадесет основни камъ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дванадесет имена на тях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ената на дванадесет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постоли на Агнец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2133720"/>
            <a:ext cx="42292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ози, който говореше 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н, имаше за мярка злат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ъстикова пръчка, за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мери града, портите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ената му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2133720"/>
            <a:ext cx="430524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Градът беше квадрате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дължина равн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ирочината му; и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мери града с тръстиков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ъчка, излезе дванадесе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иляди стадии. Дължина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ирочината и височин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 са еднакв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2133720"/>
            <a:ext cx="42670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змери и стената му, коя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лезе сто и четиридесет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етири лакти; а това б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овешка мярка, употребе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ангел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2133720"/>
            <a:ext cx="432432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тената му беше изграде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яспис, а самият град -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исто злато, подобн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исто стъкл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2133720"/>
            <a:ext cx="473400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Основните камън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радските стени бяха украсе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всякакви скъпоценни камъни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рвият основен камък б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яспис, вторият сапфир, трети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алцедон, четвъртият смарагд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133720"/>
            <a:ext cx="49053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етият сардоникс, шести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рд, седмият хризолит, осми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ирил, деветият топаз, десети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изопрас, единадесетият хиацинт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ванадесетият аметис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2133720"/>
            <a:ext cx="47052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ванадесетте порти бя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ванадесет бисера; всяка пор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е от един бисер; и улица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рада беше от чисто зла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зрачно като стъкл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24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2276640"/>
            <a:ext cx="369576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храм не видях в нег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неговият храм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 Бог Всемогъщи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Агнецъ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124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2276640"/>
            <a:ext cx="41911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градът нямаше нужда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ънце, нито от луна да г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ветява, защото Божия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ава го осветяваше,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вото светило е Агнецъ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124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2492280"/>
            <a:ext cx="4103640" cy="15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земните племена ще ход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 неговата светлина: земн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е ще принасят в нег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оята слав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124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2276640"/>
            <a:ext cx="330516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ртите му няма да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тварят денем, (а нощ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ма да има там)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124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2276640"/>
            <a:ext cx="291492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земните жител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принасят в нег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оята слав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124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2276640"/>
            <a:ext cx="40388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 него няма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лезе нещо нечисто, н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нзи, който върши мерзос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който лъже, а сам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писаните в книга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ота на Агнец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638440" y="836640"/>
            <a:ext cx="1933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яния 17:2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2276640"/>
            <a:ext cx="41626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в Него живеем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вижим се и съществуваме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кто и някои от ваш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ети са казали: 'Защ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ри Негов род сме'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484360" y="1320840"/>
            <a:ext cx="1552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Ж. Елул: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09680" y="6308640"/>
            <a:ext cx="6610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" Апокалипсис. Книгата на откровението "</a:t>
            </a:r>
            <a:endParaRPr b="0" i="1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2852640"/>
            <a:ext cx="64292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Всички културни, научни, техническ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стетични и интелектуални призведения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ялата музика и скулптура, цялата поез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математика, цялата философия и всич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нания влизат в този Ерусалим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368960" y="836640"/>
            <a:ext cx="15714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66:2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27640" y="3789360"/>
            <a:ext cx="446724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, както новото неб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овата земя, които Аз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правя, ще пребъдат п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н, казва Господ, така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бъде родът ви и името ви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368960" y="836640"/>
            <a:ext cx="15714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66:2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932360" y="3789360"/>
            <a:ext cx="39052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от новолуние д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волуние, и от събо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 събота, е идва вся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вар да се покланя п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н, казва Господ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411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2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2276640"/>
            <a:ext cx="447696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лед това, ангелът м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каза река с вода на живот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истра като кристал, коя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вираше от престола на Бог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а Агнеца и течеше нас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лицата му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411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2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276640"/>
            <a:ext cx="4515120" cy="25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от двете страни на рек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аше дърво на живота, ко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ждаше плод дванадесе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ти, като даваше плод все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сец и листата на дървет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яха за изцелени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ните племена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411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2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640" y="2276640"/>
            <a:ext cx="41436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икакво проклятие нням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има вече; и престолът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га и на Агнеца ще бъде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 и Неговите слуг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 служат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411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2: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2276640"/>
            <a:ext cx="381024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е ще гледат лицето Му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еговото име ще бъ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челата им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411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2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640"/>
            <a:ext cx="429588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ощ няма да има вече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ма да има нужда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ветеяване на светило ил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слънчева светлина, защ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 Бог ги осветява. И 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царуват до вечни веков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368960" y="836640"/>
            <a:ext cx="15714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66:2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32360" y="3789360"/>
            <a:ext cx="39052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от новолуние д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волуние, и от събо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 събота, е идва вся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вар да се покланя п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н, казва Господ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427640" y="2060640"/>
            <a:ext cx="4381560" cy="3754440"/>
            <a:chOff x="4427640" y="2060640"/>
            <a:chExt cx="4381560" cy="3754440"/>
          </a:xfrm>
        </p:grpSpPr>
        <p:sp>
          <p:nvSpPr>
            <p:cNvPr id="136" name=""/>
            <p:cNvSpPr txBox="1"/>
            <p:nvPr/>
          </p:nvSpPr>
          <p:spPr>
            <a:xfrm>
              <a:off x="4653000" y="2060640"/>
              <a:ext cx="409572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При това, светлината 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луната ще бъде ка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ветлината на слънцето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светлината на слънце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бъде седмократна - ка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427640" y="4076640"/>
              <a:ext cx="4381560" cy="17384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ветлината на седем дни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 деня, когато Господ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ревързва раната на народ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и, и изцелява поражение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т удара върху тях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4368960" y="836640"/>
            <a:ext cx="15714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30:2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74760" y="4900680"/>
            <a:ext cx="785808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според както е писано: Каквото око не е видял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ухо не е чуло, и на човешко сърце не е идвал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о това е приготвил Бог за тези, които Го обича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640560" y="6165720"/>
            <a:ext cx="2324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Коринтяни 2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192560" y="855720"/>
            <a:ext cx="2171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148360" y="2205000"/>
            <a:ext cx="343836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според обещани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 очакваме ново неб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ова земя, в която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ее правд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1349280" y="1125360"/>
            <a:ext cx="3384720" cy="2248200"/>
            <a:chOff x="1349280" y="1125360"/>
            <a:chExt cx="3384720" cy="2248200"/>
          </a:xfrm>
        </p:grpSpPr>
        <p:sp>
          <p:nvSpPr>
            <p:cNvPr id="149" name=""/>
            <p:cNvSpPr txBox="1"/>
            <p:nvPr/>
          </p:nvSpPr>
          <p:spPr>
            <a:xfrm>
              <a:off x="1619280" y="1484280"/>
              <a:ext cx="3114720" cy="188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c9fcb"/>
                      </a:gs>
                      <a:gs pos="50000">
                        <a:srgbClr val="f8b049"/>
                      </a:gs>
                      <a:gs pos="100000">
                        <a:srgbClr val="fc9fcb"/>
                      </a:gs>
                    </a:gsLst>
                    <a:lin ang="13500000"/>
                  </a:gra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 </a:t>
              </a:r>
              <a:r>
                <a:rPr b="0" i="1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c9fcb"/>
                      </a:gs>
                      <a:gs pos="50000">
                        <a:srgbClr val="f8b049"/>
                      </a:gs>
                      <a:gs pos="100000">
                        <a:srgbClr val="fc9fcb"/>
                      </a:gs>
                    </a:gsLst>
                    <a:lin ang="13500000"/>
                  </a:gra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оследен поздрав</a:t>
              </a:r>
              <a:endParaRPr b="0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c9fcb"/>
                      </a:gs>
                      <a:gs pos="50000">
                        <a:srgbClr val="f8b049"/>
                      </a:gs>
                      <a:gs pos="100000">
                        <a:srgbClr val="fc9fcb"/>
                      </a:gs>
                    </a:gsLst>
                    <a:lin ang="13500000"/>
                  </a:gra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0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c9fcb"/>
                      </a:gs>
                      <a:gs pos="50000">
                        <a:srgbClr val="f8b049"/>
                      </a:gs>
                      <a:gs pos="100000">
                        <a:srgbClr val="fc9fcb"/>
                      </a:gs>
                    </a:gsLst>
                    <a:lin ang="13500000"/>
                  </a:gra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прощално слово</a:t>
              </a:r>
              <a:endParaRPr b="0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349280" y="1125360"/>
              <a:ext cx="48600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1" strike="noStrike">
                  <a:ln w="648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i="1" lang="en-US" sz="5400" spc="1" strike="noStrike">
                <a:ln w="648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51" name=""/>
          <p:cNvSpPr txBox="1"/>
          <p:nvPr/>
        </p:nvSpPr>
        <p:spPr>
          <a:xfrm>
            <a:off x="4572000" y="6334200"/>
            <a:ext cx="42958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аповядайте на 27 март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11640" y="1989000"/>
            <a:ext cx="4524480" cy="289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гава дойде един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емте ангела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яха натоварени съ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емте последни яз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държаха седемте чаш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ми заговори, казвайки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ла, ще ти покажа невеста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ената на Агнет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356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32360" y="1989000"/>
            <a:ext cx="362916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ме отведе чрез Ду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една голяма и висо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нина, и показа м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тия град, Ерусалим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слизаше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бето от Бог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356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3080" y="1989000"/>
            <a:ext cx="43912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имаше божествена сла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то светеше, както свет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кой много скъпоцен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мък, като яспис, прозрач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то кристал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2133720"/>
            <a:ext cx="460044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Градът имаше голям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сока стена, с дванадесе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рти и на портите дванадесе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нгела, и надписани на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ртите имена, които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ената на дванадесет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емена на израилтяните: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83528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2133720"/>
            <a:ext cx="436248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Откъм изток три порт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ъм север три порти, откъ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юг три порти и откъм запа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и порт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8:31:33Z</dcterms:created>
  <dc:creator>The Mind</dc:creator>
  <dc:description/>
  <dc:language>en-US</dc:language>
  <cp:lastModifiedBy>The Mind</cp:lastModifiedBy>
  <dcterms:modified xsi:type="dcterms:W3CDTF">2005-03-17T18:05:18Z</dcterms:modified>
  <cp:revision>7</cp:revision>
  <dc:subject/>
  <dc:title>Slide 1</dc:title>
</cp:coreProperties>
</file>